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42573"/>
        <c:axId val="51135579"/>
      </c:barChart>
      <c:catAx>
        <c:axId val="47242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35579"/>
        <c:crosses val="autoZero"/>
        <c:auto val="1"/>
        <c:lblAlgn val="ctr"/>
        <c:lblOffset val="100"/>
        <c:noMultiLvlLbl val="0"/>
      </c:catAx>
      <c:valAx>
        <c:axId val="51135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42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016-12AA-47E2-9B44-64B332B8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B0B-62F0-4FD1-AF2A-119F256A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BCD-2C38-4505-A12A-FD1E4B8E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8B6-0896-4B27-9E95-BEC30D4A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62E-B26F-490B-8C71-FA09EB6E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57D-7317-4C9F-A8CB-A377CBB5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CAE-388D-4E77-A905-8F70C902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B94-A9A4-4464-80F8-2DA4E113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6AE-D342-4E77-8CF2-3215967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ACA-63BA-429C-B046-00ECF293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718-E596-4013-AE31-21F7226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B87-11D3-42DD-A7C7-56BC81C0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9F375-5DC1-45B8-BEA6-7CCD78479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