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01886"/>
        <c:axId val="4510616"/>
      </c:barChart>
      <c:catAx>
        <c:axId val="690018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0616"/>
        <c:crosses val="autoZero"/>
        <c:auto val="1"/>
        <c:lblAlgn val="ctr"/>
        <c:lblOffset val="100"/>
        <c:noMultiLvlLbl val="0"/>
      </c:catAx>
      <c:valAx>
        <c:axId val="45106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018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163-E252-4980-ADB2-DC71C9CC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DA9-092D-403A-9FC7-BC10F8D9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426-91DA-4CD8-ADF4-C0606614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8EB-25C5-44A0-B2A7-3992D92A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4F2-4C36-4EEA-B377-E5574247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1F7-5FC2-44EF-A34B-05F34E51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8CE-DC7A-463A-A64A-8FFC4258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EBF-64EA-449E-BDD3-21BE3503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184-30D1-44F5-B6B3-07EA2D73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1F3-1D1D-4E4F-98D5-B34CB576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9C2-CFA7-4BD0-96A5-AE67F620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1C4-40DB-4C96-8D70-CD7C77A5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45A6B-7521-456B-B484-F9DBED927A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